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ED4-AC57-4176-B2FE-769E8001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49E-40FE-4373-81BB-2D21B63A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125-0966-40A1-9BDE-6321AD2B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5BF-8A7E-4BD5-B7B8-77123100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A5A-D53F-402A-8313-DC6F6C46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2A7-18F5-4295-A465-4038464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383-E068-4FF5-B207-F0F4B5DD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842-F604-4FB3-BB36-9CA758D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A0D-5199-4283-BAD1-472456B9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A10-87CE-4683-BBF8-0144D9D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F5E-C001-4E08-A803-758DF68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AAC-2AFD-4656-BD98-C35920B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5272-FC2E-4CE1-A820-29664DB1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y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Knobl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0160" y="1600200"/>
            <a:ext cx="640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85800"/>
            <a:ext cx="6096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728720"/>
            <a:ext cx="57913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00ff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199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32:35Z</dcterms:created>
  <dc:creator>bal_atknoblauch</dc:creator>
  <dc:description/>
  <dc:language>en-US</dc:language>
  <cp:lastModifiedBy>C</cp:lastModifiedBy>
  <dcterms:modified xsi:type="dcterms:W3CDTF">2009-05-22T20:14:28Z</dcterms:modified>
  <cp:revision>4</cp:revision>
  <dc:subject/>
  <dc:title>Photography Portfolio</dc:title>
</cp:coreProperties>
</file>